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1D1-5BEC-438C-9FC2-C2C5A3A0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9F4-B6A1-4596-BA36-8DB73FB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A49-EBFD-4C47-8A75-D0CB6310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E13-30D7-4EB5-819D-83504D04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D28-FEFB-4E63-9BAB-E0A36CDA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69A-8EB0-42D9-B62B-576EC04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2DA-91ED-4E48-AB71-D6AF87C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B79-9FFF-4411-9A99-EF28546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A71-1A79-423A-B873-57E1965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75C-2C87-479B-9D24-19D0DA7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75A-CC83-4BD6-9709-D90DC73D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E7B-76A6-4B64-81F5-FEA29632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C1C8-159C-40EB-AD4F-B23AD485A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352680" y="6858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rum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47920" y="25146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ny pieces of bread, cake, cracker, or cook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219320" y="43434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got crumbs all over my clothes when I was eating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kcs user\Local Settings\Temporary Internet Files\Content.IE5\BH6GWFC4\MCj04078180000[1].wmf"/>
          <p:cNvPicPr/>
          <p:nvPr/>
        </p:nvPicPr>
        <p:blipFill>
          <a:blip r:embed="rId1"/>
          <a:stretch/>
        </p:blipFill>
        <p:spPr>
          <a:xfrm>
            <a:off x="0" y="0"/>
            <a:ext cx="35211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724280" y="3808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tiquet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57400" y="3276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et of rules for correct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676520" y="4800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 etiquette is to eat with your mouth clo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kcs user\Local Settings\Temporary Internet Files\Content.IE5\RBXFOIPH\MCj0432341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352584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505320" y="4572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i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828800" y="2819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py of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143000" y="39625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cery stores make their  imitation of Frosted Flakes cere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kcs user\Local Settings\Temporary Internet Files\Content.IE5\HFUIXQC2\MCj02336810000[1].wmf"/>
          <p:cNvPicPr/>
          <p:nvPr/>
        </p:nvPicPr>
        <p:blipFill>
          <a:blip r:embed="rId1"/>
          <a:stretch/>
        </p:blipFill>
        <p:spPr>
          <a:xfrm>
            <a:off x="0" y="0"/>
            <a:ext cx="2301840" cy="2098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419720" y="38088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o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75248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y kind of s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523880" y="4800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was a lot of noise coming from the music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kcs user\Local Settings\Temporary Internet Files\Content.IE5\1QBZPOJ9\MCj04159800000[1].wmf"/>
          <p:cNvPicPr/>
          <p:nvPr/>
        </p:nvPicPr>
        <p:blipFill>
          <a:blip r:embed="rId1"/>
          <a:stretch/>
        </p:blipFill>
        <p:spPr>
          <a:xfrm>
            <a:off x="533520" y="38088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886200" y="3808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lur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981080" y="3886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e or drank in a nois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828800" y="49528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ayden slurped his drink threw the st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kcs user\Local Settings\Temporary Internet Files\Content.IE5\1QBZPOJ9\MCj04352090000[1].wmf"/>
          <p:cNvPicPr/>
          <p:nvPr/>
        </p:nvPicPr>
        <p:blipFill>
          <a:blip r:embed="rId1"/>
          <a:stretch/>
        </p:blipFill>
        <p:spPr>
          <a:xfrm>
            <a:off x="685800" y="304920"/>
            <a:ext cx="1981080" cy="3165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886200" y="380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r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6765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push and move a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371600" y="39625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a’meer spread the butter on the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kcs user\Local Settings\Temporary Internet Files\Content.IE5\HFUIXQC2\MCj0232197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318132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114800" y="6094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kcs user\Local Settings\Temporary Internet Files\Content.IE5\SZ6733UR\MCj04079840000[1].wmf"/>
          <p:cNvPicPr/>
          <p:nvPr/>
        </p:nvPicPr>
        <p:blipFill>
          <a:blip r:embed="rId1"/>
          <a:stretch/>
        </p:blipFill>
        <p:spPr>
          <a:xfrm>
            <a:off x="304920" y="304920"/>
            <a:ext cx="287172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3505320" y="228600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k in which music and other sounds have been recorded to be play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143000" y="4876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 grandparents listened to music on rec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4191120" y="457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el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kcs user\Local Settings\Temporary Internet Files\Content.IE5\SZ6733UR\MCj02336120000[1].wmf"/>
          <p:cNvPicPr/>
          <p:nvPr/>
        </p:nvPicPr>
        <p:blipFill>
          <a:blip r:embed="rId1"/>
          <a:stretch/>
        </p:blipFill>
        <p:spPr>
          <a:xfrm>
            <a:off x="380880" y="304920"/>
            <a:ext cx="2141640" cy="2209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505320" y="1981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ype of fab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3581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ta’s outfit is made of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733920" y="3049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t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50532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keep sa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286000" y="37339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s like to protect their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kcs user\Local Settings\Temporary Internet Files\Content.IE5\1QBZPOJ9\MCj04374950000[1].wmf"/>
          <p:cNvPicPr/>
          <p:nvPr/>
        </p:nvPicPr>
        <p:blipFill>
          <a:blip r:embed="rId1"/>
          <a:stretch/>
        </p:blipFill>
        <p:spPr>
          <a:xfrm>
            <a:off x="228600" y="304920"/>
            <a:ext cx="2590920" cy="2681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114800" y="38088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905120" y="22096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good man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60020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not polite to interrupt someone when they are tal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kcs user\Local Settings\Temporary Internet Files\Content.IE5\8L0NF2SB\MCPE01844_0000[1].wmf"/>
          <p:cNvPicPr/>
          <p:nvPr/>
        </p:nvPicPr>
        <p:blipFill>
          <a:blip r:embed="rId1"/>
          <a:stretch/>
        </p:blipFill>
        <p:spPr>
          <a:xfrm>
            <a:off x="0" y="0"/>
            <a:ext cx="236376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48:39Z</dcterms:created>
  <dc:creator>kcs user</dc:creator>
  <dc:description/>
  <dc:language>en-US</dc:language>
  <cp:lastModifiedBy>kcs user</cp:lastModifiedBy>
  <dcterms:modified xsi:type="dcterms:W3CDTF">2008-09-15T22:02:57Z</dcterms:modified>
  <cp:revision>5</cp:revision>
  <dc:subject/>
  <dc:title>Slide 1</dc:title>
</cp:coreProperties>
</file>